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213D5-2F58-47DF-BACD-87083926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8E7DE-2F4A-4F55-A364-B6DB9BA9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33F0D-3142-4449-B4ED-07B2D571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61051-5B37-4B5B-9354-F89C07B5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DB39-AEC0-4ADF-8473-05368BB7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4B12-5A35-4F4D-8F3C-704A57DF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85F7-7D7C-462B-9D62-C47E5488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F252-C108-4F6F-B1B0-A13EB0A6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41A9-47F3-42D9-8E60-E0C0B6E1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E53B-75DB-4ECD-BEB1-38C4DCBD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4C24-71AF-4345-AD8E-7BED84A4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D12F2-640A-4ED2-91A2-088E0B5F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2EC3-657C-4944-A90B-C4D09C52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561F-D0CC-4142-AF2D-FD69887C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88FF-390E-40DE-B0C9-62697FD2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42B4-E520-4747-BA4F-A1ECD6FE1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D217-2953-4F77-96EE-9421EBF0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DB0CD-B801-4850-9FCF-5946E369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5F792-EF66-4701-BB7E-104C95D2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B76A9-50DB-4D19-9134-6159C999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D04B7-5D52-4CC5-846E-DCF71617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92CF8-FC62-409E-9C10-16F9DD0F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98980-FA0C-4E3A-860F-7DC57BC4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AB77C-FECD-4FF3-BB30-533AD619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57FD-FC01-4C66-8725-3DDB21F627C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DFCD-73F5-43D0-9C4C-D2670167D9B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691640"/>
            <a:ext cx="11131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54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9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лаженно да е името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Господа Христ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пасител наш и Господар 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мощен Цар в све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22184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ти, избраний Божи род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грях и смърт спасе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вала на твоя Спас блаж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нчайте, венчайте Го, Бог благослов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вала, блажен Спасителю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век благослов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6312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вий, простени грешниц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Христовата любов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нчайте вий Исус Христос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ам вечния покро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141228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ти, избраний Божи род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грях и смърт спасе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вала на твоя Спас блаж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нчайте, венчайте Го, Бог благослов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вала, блажен Спасителю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век благослов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79280" y="26312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зкупените множеств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паднат на покло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е бяха те нищожеств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 днес - пред Божи тро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280" y="1107720"/>
            <a:ext cx="8964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ти, избраний Божи род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грях и смърт спасе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вала на твоя Спас блаж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нчайте, венчайте Го, Бог благослов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вала, блажен Спасителю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век благослов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6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24T15:48:06Z</dcterms:modified>
  <cp:revision>40</cp:revision>
  <dc:subject/>
  <dc:title>Slide 1</dc:title>
</cp:coreProperties>
</file>